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3.wmf" ContentType="image/x-wmf"/>
  <Override PartName="/ppt/media/image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5.jpeg" ContentType="image/jpeg"/>
  <Override PartName="/ppt/media/image9.wmf" ContentType="image/x-wmf"/>
  <Override PartName="/ppt/media/image1.png" ContentType="image/png"/>
  <Override PartName="/ppt/media/image4.wmf" ContentType="image/x-wmf"/>
  <Override PartName="/ppt/media/image6.jpeg" ContentType="image/jpeg"/>
  <Override PartName="/ppt/media/image12.wmf" ContentType="image/x-wmf"/>
  <Override PartName="/ppt/media/image7.jpeg" ContentType="image/jpeg"/>
  <Override PartName="/ppt/media/image10.wmf" ContentType="image/x-wmf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902825" cy="6858000"/>
  <p:notesSz cx="962342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CDD3-BA16-4908-8D6A-FC524B40E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3040" y="413064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1837-3B48-476D-97AC-6253AB775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620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DC12-CD9B-446B-A006-7427B2A1C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884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500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304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884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500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088D-2B88-420A-B789-5B2B27FD9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2AE9-10D0-4BD2-814D-292094FFD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DC2F-6290-4CCF-907E-5EAB79FFA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8E2E-42C9-4084-AD25-2B06FBE1C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1369-4A57-4BF2-94D6-45D3ABF4D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3040" y="609120"/>
            <a:ext cx="841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ECFB-946D-48E0-A304-9EE48C982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BE07-40FF-40CE-8853-5FE5728FD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620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9143-C49E-494C-936A-5067E1E85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B8D1-3DE2-4F21-896A-222599FCC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marL="317520" indent="-31752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6532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056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4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06560" indent="-2109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906560" indent="-2109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906560" indent="-2109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2080" cy="4572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Autofit/>
          </a:bodyPr>
          <a:lstStyle>
            <a:lvl1pPr indent="0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2920" y="624852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Autofit/>
          </a:bodyPr>
          <a:lstStyle>
            <a:lvl1pPr indent="0" algn="ctr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7760" y="6248520"/>
            <a:ext cx="2062080" cy="4572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Autofit/>
          </a:bodyPr>
          <a:lstStyle>
            <a:lvl1pPr indent="0" algn="r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fld id="{33712320-28AB-42E1-8B29-92099F384051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logoprqa" descr=""/>
          <p:cNvPicPr/>
          <p:nvPr/>
        </p:nvPicPr>
        <p:blipFill>
          <a:blip r:embed="rId2"/>
          <a:stretch/>
        </p:blipFill>
        <p:spPr>
          <a:xfrm>
            <a:off x="3276720" y="3505320"/>
            <a:ext cx="3504960" cy="30207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70040" y="421920"/>
            <a:ext cx="8664480" cy="11430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INEMAR</a:t>
            </a:r>
            <a:br>
              <a:rPr sz="4100"/>
            </a:b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INventario Emissioni ARia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47560" y="1219320"/>
            <a:ext cx="6932520" cy="22860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Regione Lombar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Direzione Generale Qualità dell’Ambient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tefano Caseri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ngelo Giudici, Marco Moretti, Anna Fraccaroli, Anna Monguzzi, Rosanna Roveda, Paola Bardinella, Andrea Cemin, Silvia Moro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ffico lineare /4 </a:t>
            </a:r>
            <a:br>
              <a:rPr sz="2400"/>
            </a:b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E STRADALE PROVINCI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rovinciali%20A3" descr=""/>
          <p:cNvPicPr/>
          <p:nvPr/>
        </p:nvPicPr>
        <p:blipFill>
          <a:blip r:embed="rId2"/>
          <a:stretch/>
        </p:blipFill>
        <p:spPr>
          <a:xfrm>
            <a:off x="1371600" y="1461960"/>
            <a:ext cx="7315200" cy="5329440"/>
          </a:xfrm>
          <a:prstGeom prst="rect">
            <a:avLst/>
          </a:prstGeom>
          <a:ln w="0">
            <a:noFill/>
          </a:ln>
        </p:spPr>
      </p:pic>
      <p:pic>
        <p:nvPicPr>
          <p:cNvPr id="94" name="logoprqa" descr=""/>
          <p:cNvPicPr/>
          <p:nvPr/>
        </p:nvPicPr>
        <p:blipFill>
          <a:blip r:embed="rId3"/>
          <a:stretch/>
        </p:blipFill>
        <p:spPr>
          <a:xfrm>
            <a:off x="8458200" y="228600"/>
            <a:ext cx="1187280" cy="69516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ffico lineare /5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600"/>
            </a:b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E STRADALE STAT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statali%20A3" descr=""/>
          <p:cNvPicPr/>
          <p:nvPr/>
        </p:nvPicPr>
        <p:blipFill>
          <a:blip r:embed="rId2"/>
          <a:stretch/>
        </p:blipFill>
        <p:spPr>
          <a:xfrm>
            <a:off x="1219320" y="1509840"/>
            <a:ext cx="7619760" cy="5111640"/>
          </a:xfrm>
          <a:prstGeom prst="rect">
            <a:avLst/>
          </a:prstGeom>
          <a:ln w="0">
            <a:noFill/>
          </a:ln>
        </p:spPr>
      </p:pic>
      <p:pic>
        <p:nvPicPr>
          <p:cNvPr id="97" name="logoprqa" descr=""/>
          <p:cNvPicPr/>
          <p:nvPr/>
        </p:nvPicPr>
        <p:blipFill>
          <a:blip r:embed="rId3"/>
          <a:stretch/>
        </p:blipFill>
        <p:spPr>
          <a:xfrm>
            <a:off x="8381880" y="228600"/>
            <a:ext cx="1187640" cy="69516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3328920" cy="116064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Traffico diffuso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029200" y="304920"/>
            <a:ext cx="42908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 algn="ctr"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Traffico linear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30440" y="1793880"/>
            <a:ext cx="61628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 algn="ctr"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opert II</a:t>
            </a:r>
            <a:br>
              <a:rPr sz="4100"/>
            </a:b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(FE e metodologia)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50800" y="3639960"/>
            <a:ext cx="484020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 algn="ctr"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Emissioni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11520" y="5591160"/>
            <a:ext cx="484056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 algn="ctr"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i="1" lang="it-IT" sz="4100" spc="-1" strike="noStrike">
                <a:solidFill>
                  <a:srgbClr val="000000"/>
                </a:solidFill>
                <a:latin typeface="Times New Roman"/>
              </a:rPr>
              <a:t>Fuel balance</a:t>
            </a:r>
            <a:r>
              <a:rPr b="0" lang="it-IT" sz="4100" spc="-1" strike="noStrike">
                <a:solidFill>
                  <a:srgbClr val="000000"/>
                </a:solidFill>
                <a:latin typeface="Times New Roman"/>
              </a:rPr>
              <a:t> ...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666880" y="4495680"/>
            <a:ext cx="671220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 algn="ctr"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Times New Roman"/>
              </a:rPr>
              <a:t>Consumi di carburant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72200" y="3200400"/>
            <a:ext cx="1522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7162920" y="1295280"/>
            <a:ext cx="7617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962520" y="3124080"/>
            <a:ext cx="9144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33920" y="1066680"/>
            <a:ext cx="7617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477120" y="5181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oprqa" descr=""/>
          <p:cNvPicPr/>
          <p:nvPr/>
        </p:nvPicPr>
        <p:blipFill>
          <a:blip r:embed="rId2"/>
          <a:stretch/>
        </p:blipFill>
        <p:spPr>
          <a:xfrm>
            <a:off x="762120" y="5562720"/>
            <a:ext cx="1187280" cy="69516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SULTATI INEMAR</a:t>
            </a:r>
            <a:br>
              <a:rPr sz="2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dati provvisori)</a:t>
            </a:r>
            <a:br>
              <a:rPr sz="1400"/>
            </a:br>
            <a:br>
              <a:rPr sz="1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sumi di BENZ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7880400" cy="4903920"/>
          </a:xfrm>
          <a:prstGeom prst="rect">
            <a:avLst/>
          </a:prstGeom>
          <a:ln w="0">
            <a:noFill/>
          </a:ln>
        </p:spPr>
      </p:pic>
      <p:pic>
        <p:nvPicPr>
          <p:cNvPr id="112" name="logoprqa" descr=""/>
          <p:cNvPicPr/>
          <p:nvPr/>
        </p:nvPicPr>
        <p:blipFill>
          <a:blip r:embed="rId3"/>
          <a:stretch/>
        </p:blipFill>
        <p:spPr>
          <a:xfrm>
            <a:off x="8381880" y="228600"/>
            <a:ext cx="1187640" cy="69516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SULTATI INEMAR</a:t>
            </a:r>
            <a:br>
              <a:rPr sz="2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dati provvisori)</a:t>
            </a:r>
            <a:br>
              <a:rPr sz="1400"/>
            </a:br>
            <a:br>
              <a:rPr sz="1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sumi di GASOL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7805520" cy="4857840"/>
          </a:xfrm>
          <a:prstGeom prst="rect">
            <a:avLst/>
          </a:prstGeom>
          <a:ln w="0">
            <a:noFill/>
          </a:ln>
        </p:spPr>
      </p:pic>
      <p:pic>
        <p:nvPicPr>
          <p:cNvPr id="115" name="logoprqa" descr=""/>
          <p:cNvPicPr/>
          <p:nvPr/>
        </p:nvPicPr>
        <p:blipFill>
          <a:blip r:embed="rId3"/>
          <a:stretch/>
        </p:blipFill>
        <p:spPr>
          <a:xfrm>
            <a:off x="8305920" y="304920"/>
            <a:ext cx="1187280" cy="69516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ndite BENZINA da Bollettino Petrolif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762120" y="1905120"/>
            <a:ext cx="8416800" cy="3585960"/>
          </a:xfrm>
          <a:prstGeom prst="rect">
            <a:avLst/>
          </a:prstGeom>
          <a:ln w="0">
            <a:noFill/>
          </a:ln>
        </p:spPr>
      </p:pic>
      <p:pic>
        <p:nvPicPr>
          <p:cNvPr id="118" name="logoprqa" descr=""/>
          <p:cNvPicPr/>
          <p:nvPr/>
        </p:nvPicPr>
        <p:blipFill>
          <a:blip r:embed="rId3"/>
          <a:stretch/>
        </p:blipFill>
        <p:spPr>
          <a:xfrm>
            <a:off x="8381880" y="304920"/>
            <a:ext cx="1187640" cy="69516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ndite GASOLIO da Bollettino Petrolif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5800" y="2133720"/>
            <a:ext cx="8705880" cy="3709800"/>
          </a:xfrm>
          <a:prstGeom prst="rect">
            <a:avLst/>
          </a:prstGeom>
          <a:ln w="0">
            <a:noFill/>
          </a:ln>
        </p:spPr>
      </p:pic>
      <p:pic>
        <p:nvPicPr>
          <p:cNvPr id="121" name="logoprqa" descr=""/>
          <p:cNvPicPr/>
          <p:nvPr/>
        </p:nvPicPr>
        <p:blipFill>
          <a:blip r:embed="rId3"/>
          <a:stretch/>
        </p:blipFill>
        <p:spPr>
          <a:xfrm>
            <a:off x="8381880" y="304920"/>
            <a:ext cx="1187640" cy="69516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17160" cy="14479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APPORTO %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SUMI Totali INEMAR * / VENDITE Bollett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logoprqa" descr=""/>
          <p:cNvPicPr/>
          <p:nvPr/>
        </p:nvPicPr>
        <p:blipFill>
          <a:blip r:embed="rId2"/>
          <a:stretch/>
        </p:blipFill>
        <p:spPr>
          <a:xfrm>
            <a:off x="8381880" y="380880"/>
            <a:ext cx="1187640" cy="6955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1295280" y="1371600"/>
            <a:ext cx="7467840" cy="49388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921240" y="6323400"/>
            <a:ext cx="220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 : dati INEMAR provviso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416800" cy="60948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br>
              <a:rPr sz="1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ZA (VENDITE-CONSUMI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8305920" cy="5168880"/>
          </a:xfrm>
          <a:prstGeom prst="rect">
            <a:avLst/>
          </a:prstGeom>
          <a:ln w="0">
            <a:noFill/>
          </a:ln>
        </p:spPr>
      </p:pic>
      <p:pic>
        <p:nvPicPr>
          <p:cNvPr id="128" name="logoprqa" descr=""/>
          <p:cNvPicPr/>
          <p:nvPr/>
        </p:nvPicPr>
        <p:blipFill>
          <a:blip r:embed="rId3"/>
          <a:stretch/>
        </p:blipFill>
        <p:spPr>
          <a:xfrm>
            <a:off x="8381880" y="228600"/>
            <a:ext cx="1187640" cy="6951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909720" y="6323400"/>
            <a:ext cx="216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: dati INEMAR provviso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4132080" cy="41148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marL="317520" indent="0">
              <a:spcBef>
                <a:spcPts val="649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te ordinari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7520" indent="0">
              <a:spcBef>
                <a:spcPts val="649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7520" indent="0">
              <a:spcBef>
                <a:spcPts val="649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7520" indent="0">
              <a:spcBef>
                <a:spcPts val="649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27760" y="1981080"/>
            <a:ext cx="4132080" cy="41148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marL="317520" indent="0" algn="r">
              <a:spcBef>
                <a:spcPts val="649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7520" indent="0" algn="r">
              <a:spcBef>
                <a:spcPts val="649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7520" indent="0" algn="r">
              <a:spcBef>
                <a:spcPts val="649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te autostrada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7520" indent="0" algn="r">
              <a:spcBef>
                <a:spcPts val="649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7520" indent="0">
              <a:spcBef>
                <a:spcPts val="649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title"/>
          </p:nvPr>
        </p:nvSpPr>
        <p:spPr>
          <a:xfrm>
            <a:off x="762120" y="5638320"/>
            <a:ext cx="3581280" cy="38124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NZIN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572000" y="3290760"/>
            <a:ext cx="5730840" cy="35672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0" y="685800"/>
            <a:ext cx="5730840" cy="3567240"/>
          </a:xfrm>
          <a:prstGeom prst="rect">
            <a:avLst/>
          </a:prstGeom>
          <a:ln w="0">
            <a:noFill/>
          </a:ln>
        </p:spPr>
      </p:pic>
      <p:pic>
        <p:nvPicPr>
          <p:cNvPr id="135" name="logoprqa" descr=""/>
          <p:cNvPicPr/>
          <p:nvPr/>
        </p:nvPicPr>
        <p:blipFill>
          <a:blip r:embed="rId4"/>
          <a:stretch/>
        </p:blipFill>
        <p:spPr>
          <a:xfrm>
            <a:off x="8305920" y="380880"/>
            <a:ext cx="1187280" cy="6955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793800" y="6361560"/>
            <a:ext cx="216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: dati INEMAR provviso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90720" y="152280"/>
            <a:ext cx="750888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Metodologia inventario emissioni INEMA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0680" y="2427120"/>
            <a:ext cx="3521160" cy="6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Q = A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F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Q = Emissione annua inquinante per ogni  inquinante e attività secondo la classificazione europea SNAP 9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3962520"/>
            <a:ext cx="181440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missioni diffu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30120" y="762120"/>
            <a:ext cx="1650960" cy="12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dicatori di attività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agini presso  circa 70 diversi enti, aziende e società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146320" y="762120"/>
            <a:ext cx="156672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Fattori di emissione (F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Dati Corina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Dati specifici   R.L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097760" y="3048120"/>
            <a:ext cx="2557440" cy="93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Emissioni da foreste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metodologia di dettaglio Corinair (per ogni tipo di essenza a livello comunal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180200" y="4724280"/>
            <a:ext cx="2392560" cy="13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it-IT" sz="1400" spc="-1" strike="noStrike">
                <a:solidFill>
                  <a:srgbClr val="0066cc"/>
                </a:solidFill>
                <a:latin typeface="Times New Roman"/>
              </a:rPr>
              <a:t>Emissioni da traffico</a:t>
            </a:r>
            <a:r>
              <a:rPr b="0" lang="it-IT" sz="1400" spc="-1" strike="noStrike">
                <a:solidFill>
                  <a:srgbClr val="0066cc"/>
                </a:solidFill>
                <a:latin typeface="Times New Roman"/>
              </a:rPr>
              <a:t> metodologia di dettaglio Copert II; possibilità di variazione percorrenze, veicoli e fattori di emiss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it-IT" sz="14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0066cc"/>
                </a:solidFill>
                <a:latin typeface="Times New Roman"/>
              </a:rPr>
              <a:t>(es. Copert II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015320" y="1371600"/>
            <a:ext cx="2639880" cy="93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missioni da riscaldam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ima fabbisogni energetici comunali da dati ISTAT 1991 per tipo di abita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0720" y="914400"/>
            <a:ext cx="2806920" cy="12571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missioni puntua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nsimento di circa 300 impianti (centrali, cementifici, inceneritori, discariche, raffinerie, altri impianti industrial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400" y="5029200"/>
            <a:ext cx="4572000" cy="9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Times New Roman"/>
              </a:rPr>
              <a:t>Inema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Times New Roman"/>
              </a:rPr>
              <a:t>Emissioni Totali a livello ‘comunale’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Visualizzazione tramite GIS Nebula LT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7680" y="2373480"/>
            <a:ext cx="3603600" cy="20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09600" y="1846440"/>
            <a:ext cx="220680" cy="474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420640" y="1952640"/>
            <a:ext cx="82440" cy="37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135240" y="4419720"/>
            <a:ext cx="33012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4125960" y="2590920"/>
            <a:ext cx="990720" cy="2133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05120" y="4876920"/>
            <a:ext cx="4647960" cy="17524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4043160" y="2514600"/>
            <a:ext cx="495000" cy="2286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851280" y="2584440"/>
            <a:ext cx="3108240" cy="792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5281560" y="3733920"/>
            <a:ext cx="1733760" cy="1218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2805120" y="2057400"/>
            <a:ext cx="1073160" cy="76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79480" y="3324240"/>
            <a:ext cx="2311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Variabili proxy per la ripartizione su base comun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6400440" y="4952880"/>
            <a:ext cx="60948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logoprqa" descr=""/>
          <p:cNvPicPr/>
          <p:nvPr/>
        </p:nvPicPr>
        <p:blipFill>
          <a:blip r:embed="rId2"/>
          <a:stretch/>
        </p:blipFill>
        <p:spPr>
          <a:xfrm>
            <a:off x="8381880" y="228600"/>
            <a:ext cx="1187640" cy="69516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563868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ASOLI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228600"/>
            <a:ext cx="4132440" cy="41148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marL="317520" indent="0">
              <a:spcBef>
                <a:spcPts val="649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te ordinari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7520" indent="0">
              <a:spcBef>
                <a:spcPts val="649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486040" y="2438280"/>
            <a:ext cx="4132440" cy="41148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marL="317520" indent="0" algn="r">
              <a:spcBef>
                <a:spcPts val="649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7520" indent="0" algn="r">
              <a:spcBef>
                <a:spcPts val="649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te autostrada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7520" indent="0">
              <a:spcBef>
                <a:spcPts val="649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495680" y="3270240"/>
            <a:ext cx="5765760" cy="35877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0" y="609480"/>
            <a:ext cx="5730840" cy="3565800"/>
          </a:xfrm>
          <a:prstGeom prst="rect">
            <a:avLst/>
          </a:prstGeom>
          <a:ln w="0">
            <a:noFill/>
          </a:ln>
        </p:spPr>
      </p:pic>
      <p:pic>
        <p:nvPicPr>
          <p:cNvPr id="142" name="logoprqa" descr=""/>
          <p:cNvPicPr/>
          <p:nvPr/>
        </p:nvPicPr>
        <p:blipFill>
          <a:blip r:embed="rId4"/>
          <a:stretch/>
        </p:blipFill>
        <p:spPr>
          <a:xfrm>
            <a:off x="8229600" y="457200"/>
            <a:ext cx="1187280" cy="6951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909720" y="6323400"/>
            <a:ext cx="216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: dati INEMAR provviso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logoprqa" descr=""/>
          <p:cNvPicPr/>
          <p:nvPr/>
        </p:nvPicPr>
        <p:blipFill>
          <a:blip r:embed="rId2"/>
          <a:stretch/>
        </p:blipFill>
        <p:spPr>
          <a:xfrm>
            <a:off x="8229600" y="304920"/>
            <a:ext cx="1187280" cy="6951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0" y="949320"/>
            <a:ext cx="9682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94280" y="652320"/>
            <a:ext cx="8806680" cy="15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CERTEZ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i dati delle VENDITE di carburanti fornite dal Bollettino Petrolif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38080" y="1752480"/>
            <a:ext cx="83631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consumi da traffico pesante di scorrimento e ruolo            pendolarismo (distributore di preferenz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dato di extraret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disomogeneità sul territorio dei distributori e influenza della razionalizzazione dei punti di vendi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logoprqa" descr=""/>
          <p:cNvPicPr/>
          <p:nvPr/>
        </p:nvPicPr>
        <p:blipFill>
          <a:blip r:embed="rId2"/>
          <a:stretch/>
        </p:blipFill>
        <p:spPr>
          <a:xfrm>
            <a:off x="8305920" y="380880"/>
            <a:ext cx="1187280" cy="6955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0" y="949320"/>
            <a:ext cx="9682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28400" y="652320"/>
            <a:ext cx="7134840" cy="17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CERTEZZE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i CONSUMI e nelle EMISSIONI stimate da INE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38080" y="2209680"/>
            <a:ext cx="8363160" cy="43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enze nei dati dei flussi di traff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ertezza del modello TR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ertezza velocità di percorren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ertezza nelle curve di distribuzione tempor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ertezza nelle percorrenze urbane (classi di comun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tilità nel PRQA dei dati di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ISSIONI ‘COMUNALI’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8416800" cy="45720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marL="317520" indent="-317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zione delle ‘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ee critic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7520" indent="0">
              <a:spcBef>
                <a:spcPts val="700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7520" indent="-317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zione del ruolo di nuovi impianti nell’ambito delle V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7520" indent="0">
              <a:spcBef>
                <a:spcPts val="700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7520" indent="-317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o alla modellistica degli inquinanti tradizionali e dell’ozono (modelli fotochimic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7520" indent="0">
              <a:spcBef>
                <a:spcPts val="700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7520" indent="-317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ende 21 Loca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logoprqa" descr=""/>
          <p:cNvPicPr/>
          <p:nvPr/>
        </p:nvPicPr>
        <p:blipFill>
          <a:blip r:embed="rId2"/>
          <a:stretch/>
        </p:blipFill>
        <p:spPr>
          <a:xfrm>
            <a:off x="8305920" y="304920"/>
            <a:ext cx="1187280" cy="69516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770040" y="1635120"/>
            <a:ext cx="8472240" cy="25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 algn="ctr"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br>
              <a:rPr sz="4100"/>
            </a:br>
            <a:br>
              <a:rPr sz="4100"/>
            </a:br>
            <a:br>
              <a:rPr sz="4100"/>
            </a:br>
            <a:br>
              <a:rPr sz="4100"/>
            </a:b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1142640"/>
            <a:ext cx="8417160" cy="11430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br>
              <a:rPr sz="4100"/>
            </a:br>
            <a:br>
              <a:rPr sz="4100"/>
            </a:br>
            <a:r>
              <a:rPr b="1" lang="it-IT" sz="4100" spc="-1" strike="noStrike">
                <a:solidFill>
                  <a:srgbClr val="000000"/>
                </a:solidFill>
                <a:latin typeface="Times New Roman"/>
              </a:rPr>
              <a:t>Emissioni da traffico</a:t>
            </a:r>
            <a:br>
              <a:rPr sz="4100"/>
            </a:br>
            <a:br>
              <a:rPr sz="4100"/>
            </a:b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emissioni allo scarico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emissioni evapor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4876560"/>
            <a:ext cx="4132080" cy="14475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marL="317520" indent="0" algn="ctr">
              <a:spcBef>
                <a:spcPts val="700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Traffico diffu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7520" indent="0" algn="ctr">
              <a:spcBef>
                <a:spcPts val="649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7520" indent="0" algn="ctr">
              <a:spcBef>
                <a:spcPts val="649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81120" y="4876920"/>
            <a:ext cx="4132440" cy="13716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marL="317520" indent="0" algn="ctr">
              <a:spcBef>
                <a:spcPts val="700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Traffico line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7520" indent="0" algn="ctr">
              <a:spcBef>
                <a:spcPts val="649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7520" indent="0" algn="ctr">
              <a:spcBef>
                <a:spcPts val="649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7520" indent="0" algn="ctr">
              <a:spcBef>
                <a:spcPts val="649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590560" y="3581280"/>
            <a:ext cx="1600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638680" y="3581280"/>
            <a:ext cx="15242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logoprqa" descr=""/>
          <p:cNvPicPr/>
          <p:nvPr/>
        </p:nvPicPr>
        <p:blipFill>
          <a:blip r:embed="rId2"/>
          <a:stretch/>
        </p:blipFill>
        <p:spPr>
          <a:xfrm>
            <a:off x="8229600" y="304920"/>
            <a:ext cx="1187280" cy="69516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TTUR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NEMAR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issioni da traff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1295280"/>
            <a:ext cx="9902880" cy="5311800"/>
          </a:xfrm>
          <a:prstGeom prst="rect">
            <a:avLst/>
          </a:prstGeom>
          <a:ln w="0">
            <a:noFill/>
          </a:ln>
        </p:spPr>
      </p:pic>
      <p:pic>
        <p:nvPicPr>
          <p:cNvPr id="79" name="logoprqa" descr=""/>
          <p:cNvPicPr/>
          <p:nvPr/>
        </p:nvPicPr>
        <p:blipFill>
          <a:blip r:embed="rId3"/>
          <a:stretch/>
        </p:blipFill>
        <p:spPr>
          <a:xfrm>
            <a:off x="8381880" y="304920"/>
            <a:ext cx="1187640" cy="69516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096040" cy="5335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INPUT Traffico diffuso</a:t>
            </a:r>
            <a:br>
              <a:rPr sz="36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erraria s.r.l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marL="317520" indent="0">
              <a:spcBef>
                <a:spcPts val="601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7520" indent="-317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accolta e analisi di 40 Piani Urbani del Traff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7520" indent="0">
              <a:spcBef>
                <a:spcPts val="601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7520" indent="-317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lezione di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18 PUT di riferimento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rappresentanti più del 26% della popolazione da cui tratte informazioni di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percorrenze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velocità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con relativa distribuzione temporale (ora/tipo giorno/mese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7520" indent="-317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lla base dell’indicato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opolazion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definit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20 classi di Comun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per cui ipotizzate analoghe percorrenze e velocit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logoprqa" descr=""/>
          <p:cNvPicPr/>
          <p:nvPr/>
        </p:nvPicPr>
        <p:blipFill>
          <a:blip r:embed="rId2"/>
          <a:stretch/>
        </p:blipFill>
        <p:spPr>
          <a:xfrm>
            <a:off x="8305920" y="304920"/>
            <a:ext cx="1187280" cy="69516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INPUT Traffico lineare /1</a:t>
            </a:r>
            <a:br>
              <a:rPr sz="3600"/>
            </a:b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(Systematica s.r.l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762120" y="159984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dello di assegnazione del traffico 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RIP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del modello di assegnazione derivanti dall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isi di tutti i dati di traffico disponibili per la Regione Lombardia nel periodo 1993 -1998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rilevamenti sistematici e occasionali su strade statali e provinciali,  rilevamenti e matrici O/D sulla rete autostradale, indagini ATM di Milano,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logoprqa" descr=""/>
          <p:cNvPicPr/>
          <p:nvPr/>
        </p:nvPicPr>
        <p:blipFill>
          <a:blip r:embed="rId2"/>
          <a:stretch/>
        </p:blipFill>
        <p:spPr>
          <a:xfrm>
            <a:off x="8229600" y="380880"/>
            <a:ext cx="1187280" cy="69552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760400" y="210960"/>
            <a:ext cx="6161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INPUT Traffico lineare /2</a:t>
            </a:r>
            <a:br>
              <a:rPr sz="3600"/>
            </a:b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(Systematica s.r.l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83808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 fontScale="91000"/>
          </a:bodyPr>
          <a:p>
            <a:pPr marL="288720" indent="-2887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atteristiche topografiche e di traffico di circ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000 arch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uddivisi t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720" indent="0">
              <a:spcBef>
                <a:spcPts val="601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- autostrade (autostrade, tangenziali, superstra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720" indent="0">
              <a:spcBef>
                <a:spcPts val="601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de extraurbane (provinciali, statali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720" indent="-2887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ero veicoli (transiti) suddivisi pe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 categorie di veicol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 SNAP Sectors (auto passeggeri, veicoli leggeri &lt; 3.5 t, veicoli pesanti &gt; 3.5 t e bus, motocicli &gt; 50 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ll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ascia oraria di punta (7.00-9.00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720" indent="-2887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efficienti di distribuzione temporale (4 fasce orarie / 3 giorni tipo / 4 stagioni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720" indent="-2887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ve di deflusso (frazioni velocità e capacità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logoprqa" descr=""/>
          <p:cNvPicPr/>
          <p:nvPr/>
        </p:nvPicPr>
        <p:blipFill>
          <a:blip r:embed="rId2"/>
          <a:stretch/>
        </p:blipFill>
        <p:spPr>
          <a:xfrm>
            <a:off x="8381880" y="304920"/>
            <a:ext cx="1187640" cy="69516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416800" cy="12193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ffico lineare /3</a:t>
            </a:r>
            <a:br>
              <a:rPr sz="2800"/>
            </a:b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E STRADALE PRINCIPALE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utostrade, superstrade, tangenzi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utostrade%20A3" descr=""/>
          <p:cNvPicPr/>
          <p:nvPr/>
        </p:nvPicPr>
        <p:blipFill>
          <a:blip r:embed="rId2"/>
          <a:stretch/>
        </p:blipFill>
        <p:spPr>
          <a:xfrm>
            <a:off x="1143000" y="1650960"/>
            <a:ext cx="7696080" cy="4994280"/>
          </a:xfrm>
          <a:prstGeom prst="rect">
            <a:avLst/>
          </a:prstGeom>
          <a:ln w="0">
            <a:noFill/>
          </a:ln>
        </p:spPr>
      </p:pic>
      <p:pic>
        <p:nvPicPr>
          <p:cNvPr id="91" name="logoprqa" descr=""/>
          <p:cNvPicPr/>
          <p:nvPr/>
        </p:nvPicPr>
        <p:blipFill>
          <a:blip r:embed="rId3"/>
          <a:stretch/>
        </p:blipFill>
        <p:spPr>
          <a:xfrm>
            <a:off x="8381880" y="228600"/>
            <a:ext cx="1187640" cy="69516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6T13:15:28Z</dcterms:created>
  <dc:creator>brambilla</dc:creator>
  <dc:description/>
  <dc:language>en-US</dc:language>
  <cp:lastModifiedBy>Silvia</cp:lastModifiedBy>
  <cp:lastPrinted>2000-11-08T11:11:20Z</cp:lastPrinted>
  <dcterms:modified xsi:type="dcterms:W3CDTF">2000-11-10T11:32:09Z</dcterms:modified>
  <cp:revision>257</cp:revision>
  <dc:subject/>
  <dc:title>Nessun titolo diapositiva</dc:title>
</cp:coreProperties>
</file>